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EF2D-5347-4298-AAC5-DAE3A03D4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22D5-6588-4D52-A643-3C61AD979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529-AD47-4827-B4B6-E379B82A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714-2E6E-4ABE-9393-93580C16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1E1-534B-476A-A927-0089AB26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9AF-F2CF-4322-B9A4-44A0B231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B60-1ABB-4CD5-838B-88444A80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40A-C3DB-413D-8893-56EB4FE5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FC4-E656-4D9A-A10A-C097D895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E9B-7A36-4192-B082-0A0CD8B9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87FB-7A4B-4149-9443-4880D359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36B-B883-40F7-B166-A375CE74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0A2-AEAF-4564-95FA-02BB3ECE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4FF-CBCF-43D5-A106-61BAB280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EAD6-D650-4543-AD4B-45E99BF54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iara Zapa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04840" y="4457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71360" y="51944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Ze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Kiara. Yo vivo en NYC. Yo soy catorce años. Tengo tres hermanas. Estoy buena y 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76160" y="519444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19920"/>
            <a:ext cx="62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447920" y="51814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0" descr="Photo on 2011-10-21 at 13.39 #2.jpg"/>
          <p:cNvPicPr/>
          <p:nvPr/>
        </p:nvPicPr>
        <p:blipFill>
          <a:blip r:embed="rId1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743200" y="3809880"/>
            <a:ext cx="44197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¡Gracias, Niall! Él es lind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19520" y="3200400"/>
            <a:ext cx="43434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2514600"/>
            <a:ext cx="44197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4495680"/>
            <a:ext cx="44197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Ella es bonita, hermosa, alta, y flaca! De nad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666880" y="5181480"/>
            <a:ext cx="44960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¡Buenas tardes! estoy bien y tu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42 minute sgo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1 de diciemb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6019920"/>
            <a:ext cx="44197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 1 hour ago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</a:t>
            </a: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01 de diciemb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2"/>
          <p:cNvSpPr/>
          <p:nvPr/>
        </p:nvSpPr>
        <p:spPr>
          <a:xfrm>
            <a:off x="815760" y="6018120"/>
            <a:ext cx="44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9" descr="C:\Documents and Settings\Beth\Desktop\291718_3499100816440_1116569674_n.jpg"/>
          <p:cNvPicPr/>
          <p:nvPr/>
        </p:nvPicPr>
        <p:blipFill>
          <a:blip r:embed="rId2"/>
          <a:stretch/>
        </p:blipFill>
        <p:spPr>
          <a:xfrm>
            <a:off x="84240" y="14479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-1.png"/>
          <p:cNvPicPr/>
          <p:nvPr/>
        </p:nvPicPr>
        <p:blipFill>
          <a:blip r:embed="rId3"/>
          <a:stretch/>
        </p:blipFill>
        <p:spPr>
          <a:xfrm>
            <a:off x="152280" y="472428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-1.png"/>
          <p:cNvPicPr/>
          <p:nvPr/>
        </p:nvPicPr>
        <p:blipFill>
          <a:blip r:embed="rId4"/>
          <a:stretch/>
        </p:blipFill>
        <p:spPr>
          <a:xfrm>
            <a:off x="2057400" y="2514600"/>
            <a:ext cx="61272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63746_3814720258609_1445561697_n.jpeg"/>
          <p:cNvPicPr/>
          <p:nvPr/>
        </p:nvPicPr>
        <p:blipFill>
          <a:blip r:embed="rId5"/>
          <a:stretch/>
        </p:blipFill>
        <p:spPr>
          <a:xfrm>
            <a:off x="838080" y="4724280"/>
            <a:ext cx="457200" cy="452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3393_449325755108868_272922463_n.jpeg"/>
          <p:cNvPicPr/>
          <p:nvPr/>
        </p:nvPicPr>
        <p:blipFill>
          <a:blip r:embed="rId6"/>
          <a:stretch/>
        </p:blipFill>
        <p:spPr>
          <a:xfrm>
            <a:off x="1447920" y="4740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Photo on 12-4-12 at 9.00 AM #2.jpg"/>
          <p:cNvPicPr/>
          <p:nvPr/>
        </p:nvPicPr>
        <p:blipFill>
          <a:blip r:embed="rId7"/>
          <a:srcRect l="67230" t="27732" r="-836" b="26892"/>
          <a:stretch/>
        </p:blipFill>
        <p:spPr>
          <a:xfrm>
            <a:off x="152280" y="5562720"/>
            <a:ext cx="50796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Photo on 12-4-12 at 9.00 AM #2.jpg"/>
          <p:cNvPicPr/>
          <p:nvPr/>
        </p:nvPicPr>
        <p:blipFill>
          <a:blip r:embed="rId8"/>
          <a:srcRect l="32612" t="39134" r="39132" b="18478"/>
          <a:stretch/>
        </p:blipFill>
        <p:spPr>
          <a:xfrm>
            <a:off x="838080" y="56386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2844720" y="6095880"/>
            <a:ext cx="31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¡Buenos días! Añádeme como amigo? ¿Cómo está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1"/>
          <p:cNvSpPr/>
          <p:nvPr/>
        </p:nvSpPr>
        <p:spPr>
          <a:xfrm>
            <a:off x="6707880" y="601992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e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2" descr="-1.png"/>
          <p:cNvPicPr/>
          <p:nvPr/>
        </p:nvPicPr>
        <p:blipFill>
          <a:blip r:embed="rId9"/>
          <a:stretch/>
        </p:blipFill>
        <p:spPr>
          <a:xfrm>
            <a:off x="2057400" y="6019920"/>
            <a:ext cx="612720" cy="457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9" descr="C:\Documents and Settings\Beth\Desktop\291718_3499100816440_1116569674_n.jpg"/>
          <p:cNvPicPr/>
          <p:nvPr/>
        </p:nvPicPr>
        <p:blipFill>
          <a:blip r:embed="rId10"/>
          <a:stretch/>
        </p:blipFill>
        <p:spPr>
          <a:xfrm>
            <a:off x="2057400" y="518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imgres.jpeg"/>
          <p:cNvPicPr/>
          <p:nvPr/>
        </p:nvPicPr>
        <p:blipFill>
          <a:blip r:embed="rId11"/>
          <a:stretch/>
        </p:blipFill>
        <p:spPr>
          <a:xfrm>
            <a:off x="1447920" y="5638680"/>
            <a:ext cx="442800" cy="455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1526400" y="60958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i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4" descr="imgres.jpeg"/>
          <p:cNvPicPr/>
          <p:nvPr/>
        </p:nvPicPr>
        <p:blipFill>
          <a:blip r:embed="rId12"/>
          <a:stretch/>
        </p:blipFill>
        <p:spPr>
          <a:xfrm>
            <a:off x="2133720" y="4495680"/>
            <a:ext cx="442800" cy="45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9" descr="C:\Documents and Settings\Beth\Desktop\291718_3499100816440_1116569674_n.jpg"/>
          <p:cNvPicPr/>
          <p:nvPr/>
        </p:nvPicPr>
        <p:blipFill>
          <a:blip r:embed="rId13"/>
          <a:stretch/>
        </p:blipFill>
        <p:spPr>
          <a:xfrm>
            <a:off x="2057400" y="38098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6710400" y="518148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710040" y="449568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6710400" y="380988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49:32Z</dcterms:created>
  <dc:creator>FriscoISD</dc:creator>
  <dc:description/>
  <dc:language>en-US</dc:language>
  <cp:lastModifiedBy>User</cp:lastModifiedBy>
  <dcterms:modified xsi:type="dcterms:W3CDTF">2012-12-06T13:58:28Z</dcterms:modified>
  <cp:revision>109</cp:revision>
  <dc:subject/>
  <dc:title>Profile</dc:title>
</cp:coreProperties>
</file>